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79AB-9A56-4D30-9C96-26C07BF24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9E5B-36DE-4307-9753-E891B7E6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F6E4-C0D3-4D22-B65A-B13707BB8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E5C2-B0AD-4F42-A29E-82F0F1922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B106-35B2-4E98-AAE5-D31EC7A8E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2FA9-E70C-411B-8CB3-6867266A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1F6E-F875-4FE9-B3F7-5C1696B9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1949-9B6D-4506-BA18-824357C0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02EB-2BE9-4B7F-86D6-890E48F8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C137A-2918-43B9-BF66-35B2F344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E0AC-AF1C-4E18-8A0D-F04F1085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DC39-CB82-4972-B201-CA7D04F2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363C-C353-4338-935B-436CF57C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5271-2095-4CAD-A23C-67543C75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C705-B572-4011-B4F9-854E71C6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4423-D7E5-45D4-9313-DD6E2BBC5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53419-3E32-4FAA-A8A0-D79F96CCE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7E80C-42B8-4CAA-895E-97890854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35BF5-3BE8-4E7C-8670-FF94D1D9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E68F1-2EEB-4762-B20C-17AC5D9A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C4133-0589-4E09-9800-05A62B3F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6B9E4-4427-4FEA-B61D-EDE78250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3083-0743-4AA1-AD48-33097FF2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B3664-3CFE-4020-B122-34CDF6BE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0F89B-AB16-4593-BCAF-F0FBAFFB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62A7C-0142-4434-BB69-25BD2D39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F9F87-816D-40C2-BE45-D83E2ABD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57A0C-D18B-4555-A72F-36582948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73A44-FBA2-49E3-8C82-120394153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CBA7F-628A-46B0-A84F-13F6C501C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9E5FD-B35C-4979-A63B-330CE46FC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C720C-FF0F-41D7-9CB0-703879D3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80BA5-21B3-4DD7-BB3F-7784BCB9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B736-24E6-4B52-B1C1-29F1C8F4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8B6AF-7652-423F-AF05-AEB0A7CF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E15F7-4ED9-4A11-B200-C99B737A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8FA86-9273-44E4-B0AC-08D3C450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22C87-49BB-4D9C-B48C-456616E9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1B8EE-5E36-43FC-AE87-54DE5EB0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74E84-8A43-49CB-BF30-5A781412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A2421-DFD0-4BEC-B047-C4FE0A31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37CD2-D6AF-4D8C-AA87-428162B4D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22C3B-CEE0-4B1C-82DC-6364FCE57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82626-E5AD-418F-8FE2-56D4B1892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12E4-B89D-4ECD-A238-DC92B84C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90A37-0DBF-4441-8AC4-9E4D1E8F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BCAD7-1275-4C4C-9CBB-CE16A5C6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D0F0C-8223-4509-8C48-0E768A27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BB5AB-9B56-4471-AA4B-94E88BBB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F92F2-1481-462B-A15A-D20C3F4E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9AD2F-0256-4B4A-85E2-62B196E2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A05B6-CFBE-4D8E-8215-0B767C1C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5EAA3-5039-42C3-A505-5EAE386A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41792-DA10-4AF6-A22C-72764F37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2E9CD-48F7-4ADF-8754-1CBDF9098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10EA-61BA-4E3F-999D-41D1E5C9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9841D-E12C-44BD-AD66-78B44509E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F3CE4-AF91-4C48-9A3F-3FFFB4BB8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4F136-DDEB-4759-8603-527F6CBA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86C5B-1A7D-4871-8637-99C20C6F3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D272E-39EF-4163-8C8D-D1CAC667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ADCF1-B88C-4016-B80B-F1E6E8F3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B7BEE-CB6B-4D0B-8817-1C94CB1F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4D397-BDA0-4953-B27D-832AD8CB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C6391-88B3-49B6-86D0-C326EFF8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D8E3C-FE0C-42B5-A711-7CD9DDBF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220E-7F83-4A79-80F4-127E1789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769BF-2F60-4CAC-BEEF-55D8EBB2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EA0E1-7150-49F5-ABD1-441339329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5A3DD-90D1-43CE-96F6-3E8100E5E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1127A-B5D0-4078-9A99-196D61F3D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0C91E-72D8-4225-AF8A-8A619F95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9C9E0-9AAD-49AF-8E66-CE59031D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957E8-6048-4F07-A699-578052DA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E88CB-B43C-42F7-8A10-AE67E4E4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F792C-DD43-4D9F-88DD-E4E4CA68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5AD13-2ED0-46A2-BDBE-1A76F28E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848D-5AE9-471E-8F4D-7B9AE4DF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8542B-B0A4-4735-841D-CDA8B09D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F82FC-DCAF-4DB8-AAA2-9476B4AA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7AFC6-885D-41AD-AADA-21F64DB6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BAC92-3026-4A5D-B2AA-FC505D5E8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8AE7A-6773-4E3F-AF3B-8239C3C4B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34BD-B5DD-4205-AF76-3C368326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782F-0DBF-46CE-8827-AB106EC2AF37}" type="slidenum">
              <a:rPr b="0" lang="pl-PL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Elipsa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Elipsa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Elipsa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DBFB-72DA-4B26-863A-278ECA4D258F}" type="slidenum">
              <a:rPr b="0" lang="pl-PL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rostokąt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rostokąt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Elipsa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Elipsa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Elipsa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1480-FB73-477B-86A5-A98904D81EFE}" type="slidenum">
              <a:rPr b="0" lang="pl-PL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B82B-6138-457C-AC2E-6613E647C0EC}" type="slidenum">
              <a:rPr b="0" lang="pl-PL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rostokąt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rostokąt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24DF-7C14-4C31-9BAE-CF5027615FC5}" type="slidenum">
              <a:rPr b="0" lang="pl-PL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508C-AB46-4F4A-913E-6987FEAEF6F1}" type="slidenum">
              <a:rPr b="0" lang="pl-PL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Prostokąt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Prostokąt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Schemat blokowy: proce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chemat blokowy: proce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206A-F812-4EE9-85AB-52382CE2548F}" type="slidenum">
              <a:rPr b="0" lang="pl-PL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58560" y="227628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300" spc="-1" strike="noStrike">
                <a:solidFill>
                  <a:srgbClr val="572314"/>
                </a:solidFill>
                <a:latin typeface="Book Antiqua"/>
              </a:rPr>
              <a:t>Symetria względem </a:t>
            </a:r>
            <a:br>
              <a:rPr sz="4300"/>
            </a:br>
            <a:r>
              <a:rPr b="1" lang="pl-PL" sz="4300" spc="-1" strike="noStrike">
                <a:solidFill>
                  <a:srgbClr val="572314"/>
                </a:solidFill>
                <a:latin typeface="Book Antiqua"/>
              </a:rPr>
              <a:t>punktu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Definic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71280" y="155736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 u="sng">
                <a:solidFill>
                  <a:srgbClr val="000000"/>
                </a:solidFill>
                <a:uFillTx/>
                <a:latin typeface="Book Antiqua"/>
              </a:rPr>
              <a:t>Symetria środkowa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 (względem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punktu </a:t>
            </a:r>
            <a:r>
              <a:rPr b="0" lang="pl-PL" sz="3200" spc="-1" strike="noStrike">
                <a:solidFill>
                  <a:srgbClr val="ff0000"/>
                </a:solidFill>
                <a:latin typeface="Book Antiqua"/>
              </a:rPr>
              <a:t>S</a:t>
            </a:r>
            <a:r>
              <a:rPr b="0" lang="pl-PL" sz="3200" spc="-1" strike="noStrike">
                <a:solidFill>
                  <a:srgbClr val="cc0000"/>
                </a:solidFill>
                <a:latin typeface="Book Antiqua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) jest to przekształcenie przyporządkowujące każdemu punktowi </a:t>
            </a:r>
            <a:r>
              <a:rPr b="0" lang="pl-PL" sz="3200" spc="-1" strike="noStrike">
                <a:solidFill>
                  <a:srgbClr val="ff0000"/>
                </a:solidFill>
                <a:latin typeface="Book Antiqua"/>
              </a:rPr>
              <a:t>A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 punkt </a:t>
            </a:r>
            <a:r>
              <a:rPr b="0" lang="pl-PL" sz="3200" spc="-1" strike="noStrike">
                <a:solidFill>
                  <a:srgbClr val="ff0000"/>
                </a:solidFill>
                <a:latin typeface="Book Antiqua"/>
              </a:rPr>
              <a:t>A’ 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do niego symetryczny względem ustalonego punktu </a:t>
            </a:r>
            <a:r>
              <a:rPr b="0" lang="pl-PL" sz="3200" spc="-1" strike="noStrike">
                <a:solidFill>
                  <a:srgbClr val="ff0000"/>
                </a:solidFill>
                <a:latin typeface="Book Antiqua"/>
              </a:rPr>
              <a:t>S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zoom dir="out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ole tekstowe 2"/>
          <p:cNvSpPr/>
          <p:nvPr/>
        </p:nvSpPr>
        <p:spPr>
          <a:xfrm>
            <a:off x="971640" y="3284640"/>
            <a:ext cx="8172360" cy="33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Zadanie 2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Narysuj dowolny czworokąt i skonstruuj figurę symetryczną do niego w symetrii względ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jednego z wierzchołkó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środka jednego z bokó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punktu leżącego poza czworoką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rostokąt 3"/>
          <p:cNvSpPr/>
          <p:nvPr/>
        </p:nvSpPr>
        <p:spPr>
          <a:xfrm>
            <a:off x="971640" y="333360"/>
            <a:ext cx="8172360" cy="24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Zadanie 1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Narysuj dowolny odcinek i punkt S. Skonstruuj odcinek symetryczny do danego odcinka w symetrii względem punktu S. Rozważ różne położenia punktu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rostokąt 1"/>
          <p:cNvSpPr/>
          <p:nvPr/>
        </p:nvSpPr>
        <p:spPr>
          <a:xfrm>
            <a:off x="1042920" y="115920"/>
            <a:ext cx="792180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Zadanie 3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Book Antiqu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Która figura jest symetryczna do figury A względem punktu 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2" descr="C:\Users\Home\AppData\Local\Microsoft\Windows\Temporary Internet Files\Content.IE5\NU2RHS0H\MC900413608[1].wmf"/>
          <p:cNvPicPr/>
          <p:nvPr/>
        </p:nvPicPr>
        <p:blipFill>
          <a:blip r:embed="rId1"/>
          <a:stretch/>
        </p:blipFill>
        <p:spPr>
          <a:xfrm>
            <a:off x="2556000" y="2276640"/>
            <a:ext cx="1355760" cy="15015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C:\Users\Home\AppData\Local\Microsoft\Windows\Temporary Internet Files\Content.IE5\NU2RHS0H\MC900413608[1].wmf"/>
          <p:cNvPicPr/>
          <p:nvPr/>
        </p:nvPicPr>
        <p:blipFill>
          <a:blip r:embed="rId2"/>
          <a:stretch/>
        </p:blipFill>
        <p:spPr>
          <a:xfrm rot="4597200">
            <a:off x="2333520" y="4447800"/>
            <a:ext cx="1355760" cy="15019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C:\Users\Home\AppData\Local\Microsoft\Windows\Temporary Internet Files\Content.IE5\NU2RHS0H\MC900413608[1].wmf"/>
          <p:cNvPicPr/>
          <p:nvPr/>
        </p:nvPicPr>
        <p:blipFill>
          <a:blip r:embed="rId3"/>
          <a:stretch/>
        </p:blipFill>
        <p:spPr>
          <a:xfrm rot="10800000">
            <a:off x="4870440" y="4717800"/>
            <a:ext cx="1357200" cy="15015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C:\Users\Home\AppData\Local\Microsoft\Windows\Temporary Internet Files\Content.IE5\NU2RHS0H\MC900413608[1].wmf"/>
          <p:cNvPicPr/>
          <p:nvPr/>
        </p:nvPicPr>
        <p:blipFill>
          <a:blip r:embed="rId4"/>
          <a:stretch/>
        </p:blipFill>
        <p:spPr>
          <a:xfrm rot="4171800">
            <a:off x="4905720" y="2351880"/>
            <a:ext cx="1357200" cy="15015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C:\Users\Home\AppData\Local\Microsoft\Windows\Temporary Internet Files\Content.IE5\NU2RHS0H\MC900413608[1].wmf"/>
          <p:cNvPicPr/>
          <p:nvPr/>
        </p:nvPicPr>
        <p:blipFill>
          <a:blip r:embed="rId5"/>
          <a:stretch/>
        </p:blipFill>
        <p:spPr>
          <a:xfrm rot="10800000">
            <a:off x="6561000" y="3605040"/>
            <a:ext cx="1355760" cy="1501920"/>
          </a:xfrm>
          <a:prstGeom prst="rect">
            <a:avLst/>
          </a:prstGeom>
          <a:ln w="0">
            <a:noFill/>
          </a:ln>
        </p:spPr>
      </p:pic>
      <p:sp>
        <p:nvSpPr>
          <p:cNvPr id="383" name="Elipsa 23"/>
          <p:cNvSpPr/>
          <p:nvPr/>
        </p:nvSpPr>
        <p:spPr>
          <a:xfrm flipH="1">
            <a:off x="4355280" y="4221000"/>
            <a:ext cx="71640" cy="7164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ole tekstowe 24"/>
          <p:cNvSpPr/>
          <p:nvPr/>
        </p:nvSpPr>
        <p:spPr>
          <a:xfrm>
            <a:off x="2413800" y="3068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ole tekstowe 25"/>
          <p:cNvSpPr/>
          <p:nvPr/>
        </p:nvSpPr>
        <p:spPr>
          <a:xfrm>
            <a:off x="4430880" y="4005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ole tekstowe 29"/>
          <p:cNvSpPr/>
          <p:nvPr/>
        </p:nvSpPr>
        <p:spPr>
          <a:xfrm>
            <a:off x="2990160" y="595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ole tekstowe 30"/>
          <p:cNvSpPr/>
          <p:nvPr/>
        </p:nvSpPr>
        <p:spPr>
          <a:xfrm>
            <a:off x="7815600" y="3860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ole tekstowe 31"/>
          <p:cNvSpPr/>
          <p:nvPr/>
        </p:nvSpPr>
        <p:spPr>
          <a:xfrm>
            <a:off x="6087600" y="5084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ole tekstowe 32"/>
          <p:cNvSpPr/>
          <p:nvPr/>
        </p:nvSpPr>
        <p:spPr>
          <a:xfrm>
            <a:off x="6158880" y="2637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rostokąt 1"/>
          <p:cNvSpPr/>
          <p:nvPr/>
        </p:nvSpPr>
        <p:spPr>
          <a:xfrm>
            <a:off x="971640" y="54936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Book Antiqua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Względem którego punktu figury B i B’ są symetrycz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2" descr="C:\Users\Home\AppData\Local\Microsoft\Windows\Temporary Internet Files\Content.IE5\G0S2MCRD\MC900030629[1].wmf"/>
          <p:cNvPicPr/>
          <p:nvPr/>
        </p:nvPicPr>
        <p:blipFill>
          <a:blip r:embed="rId1"/>
          <a:stretch/>
        </p:blipFill>
        <p:spPr>
          <a:xfrm>
            <a:off x="1908000" y="1844640"/>
            <a:ext cx="1473480" cy="17715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C:\Users\Home\AppData\Local\Microsoft\Windows\Temporary Internet Files\Content.IE5\G0S2MCRD\MC900030629[1].wmf"/>
          <p:cNvPicPr/>
          <p:nvPr/>
        </p:nvPicPr>
        <p:blipFill>
          <a:blip r:embed="rId2"/>
          <a:stretch/>
        </p:blipFill>
        <p:spPr>
          <a:xfrm rot="10800000">
            <a:off x="6227280" y="3500280"/>
            <a:ext cx="1474920" cy="1773360"/>
          </a:xfrm>
          <a:prstGeom prst="rect">
            <a:avLst/>
          </a:prstGeom>
          <a:ln w="0">
            <a:noFill/>
          </a:ln>
        </p:spPr>
      </p:pic>
      <p:sp>
        <p:nvSpPr>
          <p:cNvPr id="393" name="pole tekstowe 4"/>
          <p:cNvSpPr/>
          <p:nvPr/>
        </p:nvSpPr>
        <p:spPr>
          <a:xfrm>
            <a:off x="1838520" y="2637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ole tekstowe 5"/>
          <p:cNvSpPr/>
          <p:nvPr/>
        </p:nvSpPr>
        <p:spPr>
          <a:xfrm>
            <a:off x="7599600" y="4005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Elipsa 6"/>
          <p:cNvSpPr/>
          <p:nvPr/>
        </p:nvSpPr>
        <p:spPr>
          <a:xfrm>
            <a:off x="3924360" y="3716280"/>
            <a:ext cx="71280" cy="46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Elipsa 7"/>
          <p:cNvSpPr/>
          <p:nvPr/>
        </p:nvSpPr>
        <p:spPr>
          <a:xfrm>
            <a:off x="4716360" y="3500280"/>
            <a:ext cx="71640" cy="46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Elipsa 8"/>
          <p:cNvSpPr/>
          <p:nvPr/>
        </p:nvSpPr>
        <p:spPr>
          <a:xfrm>
            <a:off x="4427640" y="2708280"/>
            <a:ext cx="73080" cy="46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Elipsa 9"/>
          <p:cNvSpPr/>
          <p:nvPr/>
        </p:nvSpPr>
        <p:spPr>
          <a:xfrm>
            <a:off x="5076720" y="4076640"/>
            <a:ext cx="71640" cy="46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Elipsa 10"/>
          <p:cNvSpPr/>
          <p:nvPr/>
        </p:nvSpPr>
        <p:spPr>
          <a:xfrm>
            <a:off x="5148360" y="3068640"/>
            <a:ext cx="71280" cy="46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ole tekstowe 19"/>
          <p:cNvSpPr/>
          <p:nvPr/>
        </p:nvSpPr>
        <p:spPr>
          <a:xfrm>
            <a:off x="3782520" y="3716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ole tekstowe 20"/>
          <p:cNvSpPr/>
          <p:nvPr/>
        </p:nvSpPr>
        <p:spPr>
          <a:xfrm>
            <a:off x="4503240" y="3213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ole tekstowe 21"/>
          <p:cNvSpPr/>
          <p:nvPr/>
        </p:nvSpPr>
        <p:spPr>
          <a:xfrm>
            <a:off x="4358880" y="234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ole tekstowe 22"/>
          <p:cNvSpPr/>
          <p:nvPr/>
        </p:nvSpPr>
        <p:spPr>
          <a:xfrm>
            <a:off x="5150880" y="2708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ole tekstowe 23"/>
          <p:cNvSpPr/>
          <p:nvPr/>
        </p:nvSpPr>
        <p:spPr>
          <a:xfrm>
            <a:off x="5150520" y="4076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Wniosk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Odcinki symetryczne do siebie względem punktu mają jednakową długość i są równoległ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Symetryczne kąty mają jednakowe miar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Figury symetryczne do siebie względem punktu są przystając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zoom dir="out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Pomysły zadań zostały zaczerpnięte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z podręcznika do 1 klasy gimnazjum „Matematyka z plusem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8172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572314"/>
                </a:solidFill>
                <a:latin typeface="Book Antiqua"/>
              </a:rPr>
              <a:t>	</a:t>
            </a:r>
            <a:r>
              <a:rPr b="0" lang="pl-PL" sz="3200" spc="-1" strike="noStrike">
                <a:solidFill>
                  <a:srgbClr val="572314"/>
                </a:solidFill>
                <a:latin typeface="Book Antiqua"/>
              </a:rPr>
              <a:t>Czy istnieje pewna prosta względem , której elementy na rysunku są symetryczne?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0" name="Picture 5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7319880" cy="3384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Symetria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42560" y="4809600"/>
            <a:ext cx="8101080" cy="20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Elementy na rysunku wydają się symetryczne, jednak nie jest to symetria względem żadnej prostej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3" name="Picture 5" descr=""/>
          <p:cNvPicPr/>
          <p:nvPr/>
        </p:nvPicPr>
        <p:blipFill>
          <a:blip r:embed="rId1"/>
          <a:stretch/>
        </p:blipFill>
        <p:spPr>
          <a:xfrm>
            <a:off x="1258920" y="1268280"/>
            <a:ext cx="7634160" cy="3527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Symetria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42560" y="5300640"/>
            <a:ext cx="810108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Book Antiqua"/>
              </a:rPr>
              <a:t>Połączmy odcinkami odpowiadające sobie punkty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6" name="Picture 5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7319880" cy="3384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Symetria?..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42560" y="4723920"/>
            <a:ext cx="810108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Zauważmy, że odcinki te przecinają się w jednym punkci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95440" indent="-514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Punkt przecięcia się odcinków jest środkiem każdego z nich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9" name="Picture 5" descr=""/>
          <p:cNvPicPr/>
          <p:nvPr/>
        </p:nvPicPr>
        <p:blipFill>
          <a:blip r:embed="rId1"/>
          <a:stretch/>
        </p:blipFill>
        <p:spPr>
          <a:xfrm>
            <a:off x="1403280" y="1341360"/>
            <a:ext cx="7321680" cy="3382920"/>
          </a:xfrm>
          <a:prstGeom prst="rect">
            <a:avLst/>
          </a:prstGeom>
          <a:ln w="0">
            <a:noFill/>
          </a:ln>
        </p:spPr>
      </p:pic>
      <p:sp>
        <p:nvSpPr>
          <p:cNvPr id="330" name="Łącznik prosty 5"/>
          <p:cNvSpPr/>
          <p:nvPr/>
        </p:nvSpPr>
        <p:spPr>
          <a:xfrm flipV="1">
            <a:off x="3059280" y="1915920"/>
            <a:ext cx="3816360" cy="216036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Łącznik prosty 7"/>
          <p:cNvSpPr/>
          <p:nvPr/>
        </p:nvSpPr>
        <p:spPr>
          <a:xfrm>
            <a:off x="2627280" y="2924280"/>
            <a:ext cx="4681440" cy="14436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Łącznik prosty 9"/>
          <p:cNvSpPr/>
          <p:nvPr/>
        </p:nvSpPr>
        <p:spPr>
          <a:xfrm flipH="1">
            <a:off x="3276360" y="1700280"/>
            <a:ext cx="3382920" cy="259236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Łącznik prosty 18"/>
          <p:cNvSpPr/>
          <p:nvPr/>
        </p:nvSpPr>
        <p:spPr>
          <a:xfrm flipV="1">
            <a:off x="2916360" y="2565000"/>
            <a:ext cx="4176720" cy="8636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Symetria!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42560" y="4868640"/>
            <a:ext cx="8101080" cy="17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O takich figurach mówimy, że są do siebie symetryczne względem punktu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6" name="Picture 5" descr=""/>
          <p:cNvPicPr/>
          <p:nvPr/>
        </p:nvPicPr>
        <p:blipFill>
          <a:blip r:embed="rId1"/>
          <a:stretch/>
        </p:blipFill>
        <p:spPr>
          <a:xfrm>
            <a:off x="1547640" y="1125360"/>
            <a:ext cx="7321680" cy="3381480"/>
          </a:xfrm>
          <a:prstGeom prst="rect">
            <a:avLst/>
          </a:prstGeom>
          <a:ln w="0">
            <a:noFill/>
          </a:ln>
        </p:spPr>
      </p:pic>
      <p:sp>
        <p:nvSpPr>
          <p:cNvPr id="337" name="Łącznik prosty 9"/>
          <p:cNvSpPr/>
          <p:nvPr/>
        </p:nvSpPr>
        <p:spPr>
          <a:xfrm>
            <a:off x="2771640" y="2708280"/>
            <a:ext cx="4680000" cy="14436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Łącznik prosty 11"/>
          <p:cNvSpPr/>
          <p:nvPr/>
        </p:nvSpPr>
        <p:spPr>
          <a:xfrm flipH="1">
            <a:off x="3419280" y="1484280"/>
            <a:ext cx="3384360" cy="259236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Łącznik prosty 14"/>
          <p:cNvSpPr/>
          <p:nvPr/>
        </p:nvSpPr>
        <p:spPr>
          <a:xfrm flipV="1">
            <a:off x="3059280" y="2349000"/>
            <a:ext cx="4176720" cy="8636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971280" y="4652640"/>
            <a:ext cx="817236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Punkty A i A’ są symetryczne względem punktu </a:t>
            </a:r>
            <a:r>
              <a:rPr b="0" lang="pl-PL" sz="2800" spc="-1" strike="noStrike">
                <a:solidFill>
                  <a:srgbClr val="cc0000"/>
                </a:solidFill>
                <a:latin typeface="Book Antiqua"/>
              </a:rPr>
              <a:t>S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, jeżeli punkt </a:t>
            </a:r>
            <a:r>
              <a:rPr b="0" lang="pl-PL" sz="2800" spc="-1" strike="noStrike">
                <a:solidFill>
                  <a:srgbClr val="cc0000"/>
                </a:solidFill>
                <a:latin typeface="Book Antiqua"/>
              </a:rPr>
              <a:t>S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 jest środkiem odcinka łączącego te punkty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Łącznik prosty 10"/>
          <p:cNvSpPr/>
          <p:nvPr/>
        </p:nvSpPr>
        <p:spPr>
          <a:xfrm>
            <a:off x="1476360" y="1773360"/>
            <a:ext cx="6696000" cy="100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Elipsa 4"/>
          <p:cNvSpPr/>
          <p:nvPr/>
        </p:nvSpPr>
        <p:spPr>
          <a:xfrm flipV="1">
            <a:off x="2195640" y="1843920"/>
            <a:ext cx="144360" cy="1443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Elipsa 5"/>
          <p:cNvSpPr/>
          <p:nvPr/>
        </p:nvSpPr>
        <p:spPr>
          <a:xfrm flipV="1">
            <a:off x="4643280" y="2204280"/>
            <a:ext cx="144720" cy="1443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Elipsa 6"/>
          <p:cNvSpPr/>
          <p:nvPr/>
        </p:nvSpPr>
        <p:spPr>
          <a:xfrm flipV="1">
            <a:off x="7093080" y="2564640"/>
            <a:ext cx="142920" cy="1429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5" name="Łącznik prosty ze strzałką 17"/>
          <p:cNvCxnSpPr>
            <a:stCxn id="342" idx="7"/>
            <a:endCxn id="343" idx="1"/>
          </p:cNvCxnSpPr>
          <p:nvPr/>
        </p:nvCxnSpPr>
        <p:spPr>
          <a:xfrm>
            <a:off x="2319120" y="1968120"/>
            <a:ext cx="2345040" cy="361080"/>
          </a:xfrm>
          <a:prstGeom prst="straightConnector1">
            <a:avLst/>
          </a:prstGeom>
          <a:ln w="9360">
            <a:solidFill>
              <a:srgbClr val="c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46" name="Łącznik prosty ze strzałką 19"/>
          <p:cNvCxnSpPr>
            <a:stCxn id="343" idx="7"/>
            <a:endCxn id="344" idx="1"/>
          </p:cNvCxnSpPr>
          <p:nvPr/>
        </p:nvCxnSpPr>
        <p:spPr>
          <a:xfrm>
            <a:off x="4767120" y="2328480"/>
            <a:ext cx="2347200" cy="359640"/>
          </a:xfrm>
          <a:prstGeom prst="straightConnector1">
            <a:avLst/>
          </a:prstGeom>
          <a:ln w="9360">
            <a:solidFill>
              <a:srgbClr val="c00000"/>
            </a:solidFill>
            <a:miter/>
            <a:headEnd len="med" type="arrow" w="med"/>
            <a:tailEnd len="med" type="arrow" w="med"/>
          </a:ln>
        </p:spPr>
      </p:cxnSp>
      <p:sp>
        <p:nvSpPr>
          <p:cNvPr id="347" name="pole tekstowe 27"/>
          <p:cNvSpPr/>
          <p:nvPr/>
        </p:nvSpPr>
        <p:spPr>
          <a:xfrm>
            <a:off x="2124000" y="1341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Book Antiqu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ole tekstowe 28"/>
          <p:cNvSpPr/>
          <p:nvPr/>
        </p:nvSpPr>
        <p:spPr>
          <a:xfrm>
            <a:off x="7093080" y="2133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Book Antiqu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ole tekstowe 29"/>
          <p:cNvSpPr/>
          <p:nvPr/>
        </p:nvSpPr>
        <p:spPr>
          <a:xfrm>
            <a:off x="4500720" y="177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c0000"/>
                </a:solidFill>
                <a:latin typeface="Book Antiqu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1042920" y="907560"/>
            <a:ext cx="784872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Aby znaleźć punkt A’ symetryczny do punktu A względem punktu S, wystarczy narysować półprostą AS i znaleźć na niej punkt A’ taki, że |AS|=|A’S|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Elipsa 8"/>
          <p:cNvSpPr/>
          <p:nvPr/>
        </p:nvSpPr>
        <p:spPr>
          <a:xfrm>
            <a:off x="2916360" y="4365720"/>
            <a:ext cx="712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Elipsa 9"/>
          <p:cNvSpPr/>
          <p:nvPr/>
        </p:nvSpPr>
        <p:spPr>
          <a:xfrm>
            <a:off x="4140360" y="4581360"/>
            <a:ext cx="71280" cy="7164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Elipsa 10"/>
          <p:cNvSpPr/>
          <p:nvPr/>
        </p:nvSpPr>
        <p:spPr>
          <a:xfrm>
            <a:off x="5364000" y="4797360"/>
            <a:ext cx="71640" cy="7164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Łącznik prosty 12"/>
          <p:cNvSpPr/>
          <p:nvPr/>
        </p:nvSpPr>
        <p:spPr>
          <a:xfrm>
            <a:off x="2987640" y="4437000"/>
            <a:ext cx="4238640" cy="6588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Elipsa 13"/>
          <p:cNvSpPr/>
          <p:nvPr/>
        </p:nvSpPr>
        <p:spPr>
          <a:xfrm>
            <a:off x="2916360" y="3357720"/>
            <a:ext cx="2519280" cy="2519280"/>
          </a:xfrm>
          <a:prstGeom prst="ellipse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ole tekstowe 14"/>
          <p:cNvSpPr/>
          <p:nvPr/>
        </p:nvSpPr>
        <p:spPr>
          <a:xfrm>
            <a:off x="2774160" y="3933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ole tekstowe 15"/>
          <p:cNvSpPr/>
          <p:nvPr/>
        </p:nvSpPr>
        <p:spPr>
          <a:xfrm>
            <a:off x="3926880" y="4149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ole tekstowe 16"/>
          <p:cNvSpPr/>
          <p:nvPr/>
        </p:nvSpPr>
        <p:spPr>
          <a:xfrm>
            <a:off x="5435280" y="4365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ole tekstowe 1"/>
          <p:cNvSpPr/>
          <p:nvPr/>
        </p:nvSpPr>
        <p:spPr>
          <a:xfrm>
            <a:off x="1187280" y="907920"/>
            <a:ext cx="763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Aby znaleźć figurę symetryczną do wielokąta względem danego punktu S, wystarczy znaleźć punkty symetryczne do wierzchołków wielokąta , po czym należy odpowiednio połączyć znalezione punk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rójkąt równoramienny 2"/>
          <p:cNvSpPr/>
          <p:nvPr/>
        </p:nvSpPr>
        <p:spPr>
          <a:xfrm rot="637200">
            <a:off x="1577880" y="3610080"/>
            <a:ext cx="2087640" cy="129672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lipsa 3"/>
          <p:cNvSpPr/>
          <p:nvPr/>
        </p:nvSpPr>
        <p:spPr>
          <a:xfrm>
            <a:off x="5003640" y="4365720"/>
            <a:ext cx="73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Łącznik prosty 5"/>
          <p:cNvSpPr/>
          <p:nvPr/>
        </p:nvSpPr>
        <p:spPr>
          <a:xfrm flipV="1">
            <a:off x="3527280" y="3662280"/>
            <a:ext cx="3140280" cy="14256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Łącznik prosty 7"/>
          <p:cNvSpPr/>
          <p:nvPr/>
        </p:nvSpPr>
        <p:spPr>
          <a:xfrm>
            <a:off x="2741760" y="3621240"/>
            <a:ext cx="4692600" cy="15174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Łącznik prosty 9"/>
          <p:cNvSpPr/>
          <p:nvPr/>
        </p:nvSpPr>
        <p:spPr>
          <a:xfrm flipV="1">
            <a:off x="1476360" y="4076640"/>
            <a:ext cx="7209000" cy="6256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rójkąt równoramienny 10"/>
          <p:cNvSpPr/>
          <p:nvPr/>
        </p:nvSpPr>
        <p:spPr>
          <a:xfrm rot="11486400">
            <a:off x="6517800" y="3855240"/>
            <a:ext cx="2087640" cy="1295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ole tekstowe 24"/>
          <p:cNvSpPr/>
          <p:nvPr/>
        </p:nvSpPr>
        <p:spPr>
          <a:xfrm>
            <a:off x="1189800" y="4292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ole tekstowe 25"/>
          <p:cNvSpPr/>
          <p:nvPr/>
        </p:nvSpPr>
        <p:spPr>
          <a:xfrm>
            <a:off x="2558520" y="3213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ole tekstowe 26"/>
          <p:cNvSpPr/>
          <p:nvPr/>
        </p:nvSpPr>
        <p:spPr>
          <a:xfrm>
            <a:off x="3422880" y="5084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ole tekstowe 27"/>
          <p:cNvSpPr/>
          <p:nvPr/>
        </p:nvSpPr>
        <p:spPr>
          <a:xfrm>
            <a:off x="4862520" y="4005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ole tekstowe 28"/>
          <p:cNvSpPr/>
          <p:nvPr/>
        </p:nvSpPr>
        <p:spPr>
          <a:xfrm>
            <a:off x="860400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ole tekstowe 29"/>
          <p:cNvSpPr/>
          <p:nvPr/>
        </p:nvSpPr>
        <p:spPr>
          <a:xfrm>
            <a:off x="7455240" y="515772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ole tekstowe 30"/>
          <p:cNvSpPr/>
          <p:nvPr/>
        </p:nvSpPr>
        <p:spPr>
          <a:xfrm>
            <a:off x="6519240" y="3284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8T21:30:16Z</dcterms:created>
  <dc:creator>Batonixxx</dc:creator>
  <dc:description/>
  <dc:language>en-US</dc:language>
  <cp:lastModifiedBy>Ania</cp:lastModifiedBy>
  <dcterms:modified xsi:type="dcterms:W3CDTF">2013-06-11T22:03:13Z</dcterms:modified>
  <cp:revision>101</cp:revision>
  <dc:subject/>
  <dc:title>Symetria względem punktu</dc:title>
</cp:coreProperties>
</file>